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65B-A770-40BA-8019-954CCE9E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6934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81080" y="3836160"/>
            <a:ext cx="6934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5282-58AD-4ADF-B34A-4DE06F4A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81080" y="383616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4280" y="383616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F7D-0763-4C6A-A8F4-54A1CA7A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25760" y="144792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0440" y="144792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81080" y="383616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25760" y="383616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0440" y="383616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28D7-7F5A-4E92-8EB2-D5114932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81080" y="14479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A03-6B4E-4AF0-888A-573851ED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8A1B-21F3-4608-8B09-7947E64A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54FC-3737-45AB-8CEE-107FCD22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7E7-942E-4D7C-AC7B-96A0359B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81080" y="304560"/>
            <a:ext cx="6934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8359-22EC-4425-A77F-5FFFC0A1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81080" y="383616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6C11-0652-43A7-9E34-BB448E05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4280" y="383616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3079-584A-4BAC-AE7A-EA0BC6C7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81080" y="3836160"/>
            <a:ext cx="6934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A6E-4947-4A08-97F2-776CAE8C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ondo1" descr=""/>
          <p:cNvPicPr/>
          <p:nvPr/>
        </p:nvPicPr>
        <p:blipFill>
          <a:blip r:embed="rId2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81080" y="14479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8BB4-71AF-4A94-9B92-1338C30707F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971800" y="304920"/>
            <a:ext cx="5943600" cy="38088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LAN DE DESARROLLO DE 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2743200"/>
            <a:ext cx="7238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Gerencia de Línea Maip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71800" y="304920"/>
            <a:ext cx="5943600" cy="38088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CRIPCIÓN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1219320"/>
            <a:ext cx="6629400" cy="4495680"/>
          </a:xfrm>
          <a:prstGeom prst="roundRect">
            <a:avLst>
              <a:gd name="adj" fmla="val 15472"/>
            </a:avLst>
          </a:prstGeom>
          <a:solidFill>
            <a:srgbClr val="00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escripción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RAZADO                                  13,5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Nº ESTACIONES                        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VEL. COMERCIAL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        32 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28800" y="228600"/>
            <a:ext cx="5943600" cy="38088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D DE METRO S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ren-ligero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4265640" cy="480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5715000" y="182880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72480" y="1704960"/>
            <a:ext cx="1790640" cy="276120"/>
          </a:xfrm>
          <a:prstGeom prst="roundRect">
            <a:avLst>
              <a:gd name="adj" fmla="val 28333"/>
            </a:avLst>
          </a:prstGeom>
          <a:solidFill>
            <a:srgbClr val="66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ínea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3657600"/>
            <a:ext cx="1409760" cy="333360"/>
          </a:xfrm>
          <a:prstGeom prst="roundRect">
            <a:avLst>
              <a:gd name="adj" fmla="val 28333"/>
            </a:avLst>
          </a:prstGeom>
          <a:solidFill>
            <a:srgbClr val="66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Red de Me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181120" y="2590920"/>
            <a:ext cx="2057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080" y="1400040"/>
            <a:ext cx="1790640" cy="276480"/>
          </a:xfrm>
          <a:prstGeom prst="roundRect">
            <a:avLst>
              <a:gd name="adj" fmla="val 28333"/>
            </a:avLst>
          </a:prstGeom>
          <a:solidFill>
            <a:srgbClr val="66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Extensiones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1523880"/>
            <a:ext cx="23619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191120"/>
            <a:ext cx="1409760" cy="637920"/>
          </a:xfrm>
          <a:prstGeom prst="roundRect">
            <a:avLst>
              <a:gd name="adj" fmla="val 28333"/>
            </a:avLst>
          </a:prstGeom>
          <a:solidFill>
            <a:srgbClr val="66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Termi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Intermod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60560" y="4266720"/>
            <a:ext cx="261144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028840" y="1114560"/>
            <a:ext cx="198108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990720"/>
            <a:ext cx="2171880" cy="304560"/>
          </a:xfrm>
          <a:prstGeom prst="roundRect">
            <a:avLst>
              <a:gd name="adj" fmla="val 28333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Ext. L2 Norte Vesp Me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5181120" y="312372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800240" y="3657240"/>
            <a:ext cx="2438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1447920"/>
            <a:ext cx="28954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447920"/>
            <a:ext cx="266688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981080" y="2666880"/>
            <a:ext cx="245916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886200" y="2666880"/>
            <a:ext cx="53352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666880"/>
            <a:ext cx="1067040" cy="1371600"/>
          </a:xfrm>
          <a:custGeom>
            <a:avLst/>
            <a:gdLst/>
            <a:ahLst/>
            <a:rect l="l" t="t" r="r" b="b"/>
            <a:pathLst>
              <a:path w="672" h="864">
                <a:moveTo>
                  <a:pt x="672" y="0"/>
                </a:moveTo>
                <a:lnTo>
                  <a:pt x="336" y="48"/>
                </a:lnTo>
                <a:lnTo>
                  <a:pt x="192" y="48"/>
                </a:lnTo>
                <a:lnTo>
                  <a:pt x="96" y="96"/>
                </a:lnTo>
                <a:lnTo>
                  <a:pt x="0" y="240"/>
                </a:lnTo>
                <a:lnTo>
                  <a:pt x="48" y="432"/>
                </a:lnTo>
                <a:lnTo>
                  <a:pt x="48" y="624"/>
                </a:lnTo>
                <a:lnTo>
                  <a:pt x="48" y="864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715000" y="2057040"/>
            <a:ext cx="533520" cy="152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72480" y="2362320"/>
            <a:ext cx="2171520" cy="304560"/>
          </a:xfrm>
          <a:prstGeom prst="roundRect">
            <a:avLst>
              <a:gd name="adj" fmla="val 2833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ínea 1 Or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590920"/>
            <a:ext cx="2171520" cy="304560"/>
          </a:xfrm>
          <a:prstGeom prst="roundRect">
            <a:avLst>
              <a:gd name="adj" fmla="val 28333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ínea Maip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61718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57200" y="2874240"/>
            <a:ext cx="108288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52480" y="236232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228600"/>
            <a:ext cx="6324480" cy="38088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DO DE AV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914400"/>
            <a:ext cx="7848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uncio Presidencial de Proyecto Línea Maipú 15 Noviembre del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ció de Ing. Detalles Piques y Galerías 28 de Junio del 2006, duración 3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ció de Ing. Básica 31 de Julio del 2006, duración 9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ció de Ing. Detalles Túneles y Estaciones 15 de Octubre del 2006, duración 11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ció de Construcción de Piques y Galerías Tramo San Pablo y Eje Pajaritos 01 de Noviembre del 2006, duración 11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3880" y="1752480"/>
            <a:ext cx="5943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TRABAJAMOS PARA MEJORAR SANTIA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 flipH="1" rot="10800000">
            <a:off x="2819520" y="532800"/>
            <a:ext cx="3660480" cy="742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477120" y="6019920"/>
            <a:ext cx="2438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4724280"/>
            <a:ext cx="3429000" cy="114300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3:33:44Z</dcterms:created>
  <dc:creator>Alejandro Orellana</dc:creator>
  <dc:description/>
  <dc:language>en-US</dc:language>
  <cp:lastModifiedBy>METRO S.A.</cp:lastModifiedBy>
  <cp:lastPrinted>2004-06-21T20:21:39Z</cp:lastPrinted>
  <dcterms:modified xsi:type="dcterms:W3CDTF">2006-08-25T19:23:36Z</dcterms:modified>
  <cp:revision>364</cp:revision>
  <dc:subject/>
  <dc:title>Presentación de PowerPoint</dc:title>
</cp:coreProperties>
</file>